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ACCA-202A-4EF7-9D90-2BDC11F55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FFF3-B9C2-4A7E-AFE8-306B3B53F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3BA9-A190-4F4A-A438-B792FDACA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C5D2-B3A9-4FFF-9A98-9315458B8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BF0-8810-4935-9934-BD33B78A7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2C8E-EFC9-4F86-A8F8-582BB3312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2792-7138-4955-9458-EEC317B06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8B59-ADC2-4793-B00D-7245565C7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425B-4E03-4172-BECA-BC10DA0CE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FF9-D238-49BC-8760-B37DB5CD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1E7-9B18-4FDE-8427-79D2100C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8D2-2ED2-4D8D-9D27-E5F79855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2AC-06CD-49B0-833C-609BC635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9C4-9E8C-4302-A83E-C159CE59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548-254E-4F20-9877-FAEDBDC3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637-2621-4DDC-8122-4F9BBBA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5FB-6DFA-49E3-9B82-5CF04FF6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06F-845D-42C6-9FC6-A5F7482B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620-B8E8-4C05-8648-47D97F29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E64-8C8F-4622-99CE-87B4EE4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E11-89F6-4BC3-815B-EF16F8CB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69E1-E222-40EB-944A-61D1B52CB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09480" y="17524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riel Ndu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Expansion and operational iss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5800" y="220968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 harvest activities will continue in the three first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will be conducted in the new locations: Iringa and Mbe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ringa rural district, 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ozi district, Mb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rops to be added to maize (Soybeans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 &amp; synchronization of activities with other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1981080"/>
            <a:ext cx="701064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POSTHARVEST HANDLING, LOSS PREVENTION &amp;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harvest handling/processing/storage activities of other crops (legumes) will be added to the current crop – ma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helling, dehulling, mill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ying technologies (e.g. use of dryer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ermetic storag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IC and/or Grain safe bags (100kg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rge capacity storage facilities (community storage bags – 1MT, 2MT per b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38080" y="1981080"/>
            <a:ext cx="7010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ADDING VALUE/NEW METHODS OF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rmers’ training on new methods of utilization of cereals &amp; legumes such as soybeans (e.g. dehulling, soymilk 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cipes for complementary foods and training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level service providers in delivering nutri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ing the capacity of households to access and consume nutrient–dense foods through improved nutrition knowledge, perception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P for processors of maize flour &amp; for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sticide residu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981080"/>
            <a:ext cx="830556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EARLY ASSESSMENT OF POSSIBLE ADOPTION OF INTRODUCED CROP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ng the acceptability of new crop varieties introduced to the farmers by capturing information on consumer/end-use quality traits, nutrient density, etc. of the new varieties vs local varie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ze extraction rate; soybean ease of cooking /milk yield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establish potential for adoption (disaggregated by location and possibly by end-use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1981080"/>
            <a:ext cx="830556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yFarmers’ dialogue in the new locations to identify the most critical postharvest constraints of the farmers &amp; training on those aspects (e.g. PH issues identified in 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hronizing some postharvest activities with the other project teams require joint planning and operationalization of the plans(e.g. field days or training after the crops are harvested; same project locations/ same farmers’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1981080"/>
            <a:ext cx="830556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 of plan mid-season needs to be jointly understood and agreed by all th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to new locations may mean increase in cost of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may also reduce the time to be spent working with farmers in each location – may become inadequate for adoption to occ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THANK YOU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4920" y="1981080"/>
            <a:ext cx="8305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7:24:16Z</dcterms:created>
  <dc:creator>Kinyoro Ibrahim</dc:creator>
  <dc:description/>
  <dc:language>en-US</dc:language>
  <cp:lastModifiedBy>Kinyoro Ibrahim</cp:lastModifiedBy>
  <dcterms:modified xsi:type="dcterms:W3CDTF">2015-07-09T05:55:00Z</dcterms:modified>
  <cp:revision>11</cp:revision>
  <dc:subject/>
  <dc:title>Slide 1</dc:title>
</cp:coreProperties>
</file>